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DD2C-A09B-4A3D-B1AC-79A2B51A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14F5-106E-4A58-AC16-805018CE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9883-4A1F-407E-BB03-69B77D7C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EB8-1D5B-41BC-A114-DD7D7FEB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97F-1EFC-49E8-AEF3-279E1ADA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A7B1-AC10-47D0-84B1-B7424401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F5C-73DB-4856-B3B7-0BDD8F26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3BF8-4136-4662-8229-DA46337B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F04-2AE3-4E3F-9FEE-9C084FA0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E7A-468E-4FA4-9E27-AE6F22FF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645-2B86-4655-86DD-9351384D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621-245C-40D7-8D32-D7967837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411D-8F60-4B5E-AC60-EE6509193A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14360" y="762120"/>
            <a:ext cx="8242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живая стыд, человек опускает или отворачивает голову, прячет взгляд, прикрывает глаза и заливается стыдливым румянц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лишком откровенные,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интенсивн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част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проявл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тыда свидетельствуют о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социальном неблагополуч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ндивид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ящийся человек чувствует свою общую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стоятельность, некомпетен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забывает слова, делает неверные движения, нередк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заика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ановится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уклюж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рашн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гримаснича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1680" y="1499760"/>
            <a:ext cx="81151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кажется себ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аленьким, беспомощным, скованным, эмоционально расстроенным, глупым, никуда не годны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т. 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опровождается временной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пособностью мыслить логично и эффектив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нередко и ощущением неудачи, пораж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стыженный человек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 в состоянии выразить словам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и пережи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возможно лишь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а фоне эмоциональной связ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ругим человеком, причем с таким, чье мнение и чьи чувства имеют особую ц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избежать сты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утвержд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мож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т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ичи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ежива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ругих эмоц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аоборот -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которых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послужи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ой сты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Ви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дна из базовых эмоций. Связана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ответствием ожидания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Чем ближ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м человек, перед которым вы провинилис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тем сильне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Мим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опровождающая переживание вины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оль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разитель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 по одному внешнему виду человека определить, чувствует он за собой вину или 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сылки развития эмоции в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ятие общих моральны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ализация эти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ность к самокри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 «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введен в психологию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.Титчене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бобщившим развивавшиеся в философской традиции идеи о симпатии с теориями вчувствования Э.Клиффорда и Т.Липп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оция вины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вяза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осознанием факта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оступка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едатель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бственных взглядов и убежд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Также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безответственным поступк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чиной могут стать поступки, которы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тивореча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моральным, этическим или религиозным норм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Функ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оции вины заключается в том, что он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тимулиру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еловек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исправить ситуац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осстановить нормальный ход ве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учший способ противостоять переживанию вины - жить в ладу со своей совест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на играет ключевую роль в процесс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вития личной и социальной ответ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 процессе становления сове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ереживания вины характерны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сокая степень напряж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умеренная импульсив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нижение увер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еб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англ. вчувствование) – специфическая система отражения партнеров по взаимодейств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сихологической литератур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рактуется как способность входить в состояния другого, как </a:t>
            </a:r>
            <a:r>
              <a:rPr b="0" lang="ru-RU" sz="2800" spc="-1" strike="noStrike" u="sng">
                <a:solidFill>
                  <a:srgbClr val="a9432b"/>
                </a:solidFill>
                <a:uFillTx/>
                <a:latin typeface="Times New Roman"/>
              </a:rPr>
              <a:t>сопереживание и сочувствие</a:t>
            </a:r>
            <a:r>
              <a:rPr b="0" lang="ru-RU" sz="2800" spc="-1" strike="noStrike">
                <a:solidFill>
                  <a:srgbClr val="a9432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снов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патии составля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ональная отзывчивос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интуи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о при этом значительную роль игра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у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циональное восприятие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шевленных объ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обход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эмпатии возникает в тех случаях, когда надо выявит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онять, предвосхити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дивидуальные особенности другого и затем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воздействов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него в нужном направл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71360" y="1571760"/>
            <a:ext cx="7615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зличают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эмоциональ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основанную на механизмах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и подражания реакциям другого человека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когни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базирующуюся н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интеллектуальных процессах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сравнение, аналогия и т. п.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предика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проявляющуюся как способность челове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едсказывать реакции другого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конкретных ситуациях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28800" y="1856880"/>
            <a:ext cx="7758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ичь причины и следствия самопроявлений другого означает понять, почему, когда, для чего, с кем (чем)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делает, говорит, думает, воспринимает, запоминает, вспоминае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чет подумать, сказать, сдела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яет свои интересы, потребности, способ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прогнозировать поведение другого означает понять, как, когда, почему, с какой целью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делает, скажет, подумает по данному поводу; сможет реализовать свои мотивы, желания, потреб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тит или не допустит определенные ошиб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Сты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отрицательно окрашенное чувство, объектом которого является какой-либо поступок или качество субъек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вязан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ощущением социальной неприемлем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го, за что стыд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3T10:33:18Z</dcterms:modified>
  <cp:revision>10</cp:revision>
  <dc:subject/>
  <dc:title>Эмоции эмпатии, стыда и вины как эмоции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c0d0000000000010250600207f5200358026400</vt:lpwstr>
  </property>
</Properties>
</file>